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563400" y="1014120"/>
            <a:ext cx="5710320" cy="42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26920" y="5544720"/>
            <a:ext cx="518328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hdr"/>
          </p:nvPr>
        </p:nvSpPr>
        <p:spPr>
          <a:xfrm>
            <a:off x="1952640" y="164880"/>
            <a:ext cx="2930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dt" idx="3"/>
          </p:nvPr>
        </p:nvSpPr>
        <p:spPr>
          <a:xfrm>
            <a:off x="31680" y="9648720"/>
            <a:ext cx="12765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78120" y="9648720"/>
            <a:ext cx="2930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78640" y="9648720"/>
            <a:ext cx="1050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5702-F3A8-403B-A158-1DD9561E02E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1" name="GWP%20Med-%20new%20logo" descr=""/>
          <p:cNvPicPr/>
          <p:nvPr/>
        </p:nvPicPr>
        <p:blipFill>
          <a:blip r:embed="rId2"/>
          <a:stretch/>
        </p:blipFill>
        <p:spPr>
          <a:xfrm>
            <a:off x="5334120" y="247680"/>
            <a:ext cx="1276200" cy="4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563400" y="1014480"/>
            <a:ext cx="5710320" cy="4282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26920" y="5544720"/>
            <a:ext cx="518328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C3AB-754F-4A51-B814-2A655507F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D7D2-F977-4D73-9719-3B964F381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75ED-FC5A-4768-9040-5E876AAAF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806D-7A04-4129-BE27-48E4089A2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D690-0DBF-4B4E-970C-B9EE90092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3ACC-077A-4BD5-AF06-3AAF6A299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7D62-E521-4E94-98A2-993E91354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8321-9210-4526-8A94-D102799F3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6C08-E7BA-4FA8-A7EC-1E9A62AB3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512A-231B-4FE4-879A-46878C443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6ACE-D6C1-4268-BD87-FA4E45124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A600-A3CA-49F4-BFCB-5C27DACB1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16B7-67B4-4BBC-8672-381C3CBEC526}" type="slidenum">
              <a:rPr b="0" lang="en-US" sz="12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9360" y="380880"/>
            <a:ext cx="787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ONFERENCE OF THE WATER DIRECTORS OF THE EURO-MEDITERRANEAN AND SOUTHEASTERN EUROPEAN COUNTRIES, ATHENS, 6-7 NOVEMBER 200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914400"/>
            <a:ext cx="7696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57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ERENCE OF THE WATER DIRECTOR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OF THE EURO-MEDITERRANEA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ND SOUTHEASTERN EUROPEAN COUNT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49975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Athens, 6 &amp; 7 November 200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42840" y="55976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61689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99"/>
                </a:solidFill>
                <a:latin typeface="Verdana"/>
              </a:rPr>
              <a:t>Hellenic Governmen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Verdana"/>
              </a:rPr>
              <a:t>Ministry for the Environmen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Verdana"/>
              </a:rPr>
              <a:t>Ministry of Foreign Affairs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90800" y="605484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EU Commission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99"/>
                </a:solidFill>
                <a:latin typeface="Verdana"/>
              </a:rPr>
              <a:t>DG Environmen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99"/>
                </a:solidFill>
                <a:latin typeface="Verdana"/>
              </a:rPr>
              <a:t>DG AidCo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371760" y="5670720"/>
            <a:ext cx="114300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81320" y="6095880"/>
            <a:ext cx="144792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333399"/>
                </a:solidFill>
                <a:latin typeface="Verdana"/>
              </a:rPr>
              <a:t>Mediterranean Component of the EU Water Initiative European Commission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8" name="top.ht2" descr=""/>
          <p:cNvPicPr/>
          <p:nvPr/>
        </p:nvPicPr>
        <p:blipFill>
          <a:blip r:embed="rId4"/>
          <a:stretch/>
        </p:blipFill>
        <p:spPr>
          <a:xfrm>
            <a:off x="2143080" y="5673600"/>
            <a:ext cx="59688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057640" y="5681520"/>
            <a:ext cx="571680" cy="51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53080" y="6245280"/>
            <a:ext cx="11430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Euro-Mediterranean Partnership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52960" y="6210360"/>
            <a:ext cx="114300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99"/>
                </a:solidFill>
                <a:latin typeface="Verdana"/>
              </a:rPr>
              <a:t>Euro-Mediterranean Information System on Know-How in the Water Sector 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6172200"/>
            <a:ext cx="125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333399"/>
                </a:solidFill>
                <a:latin typeface="Verdana"/>
              </a:rPr>
              <a:t>Regional Monitoring and Support Unit 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99"/>
                </a:solidFill>
                <a:latin typeface="Verdana"/>
              </a:rPr>
              <a:t>MEDA-Water Programme</a:t>
            </a:r>
            <a:r>
              <a:rPr b="1" lang="en-GB" sz="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210360" y="5648400"/>
            <a:ext cx="587160" cy="522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7454880" y="5676840"/>
            <a:ext cx="816120" cy="457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5486400"/>
            <a:ext cx="85341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Presentation’s Title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ubtitle</a:t>
            </a:r>
            <a:r>
              <a:rPr b="0" lang="en-US" sz="2400" spc="-1" strike="noStrike">
                <a:solidFill>
                  <a:srgbClr val="777777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85640" y="3123720"/>
            <a:ext cx="434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&lt;your na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&lt;your job titl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&lt;your organization/institution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114800"/>
            <a:ext cx="25095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You can also add the logo of your organization here, if desir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6983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Index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27520" y="5638680"/>
            <a:ext cx="5682600" cy="813240"/>
            <a:chOff x="2927520" y="5638680"/>
            <a:chExt cx="5682600" cy="813240"/>
          </a:xfrm>
        </p:grpSpPr>
        <p:sp>
          <p:nvSpPr>
            <p:cNvPr id="117" name=""/>
            <p:cNvSpPr/>
            <p:nvPr/>
          </p:nvSpPr>
          <p:spPr>
            <a:xfrm>
              <a:off x="4147920" y="5638680"/>
              <a:ext cx="4462200" cy="813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777777"/>
              </a:solidFill>
              <a:miter/>
            </a:ln>
            <a:effectLst>
              <a:outerShdw dist="17819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hange this to reflect your name and company 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(i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n the View menu, select “Header and footer” to set this information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27520" y="6076800"/>
              <a:ext cx="1226880" cy="207720"/>
            </a:xfrm>
            <a:prstGeom prst="line">
              <a:avLst/>
            </a:prstGeom>
            <a:ln w="12600">
              <a:solidFill>
                <a:srgbClr val="99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1040" bIns="41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990720"/>
            <a:ext cx="8076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Recommended Presentation Structur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066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verview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514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Themes of the presen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157560"/>
            <a:ext cx="2819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eme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eme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em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…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&lt;your organisation's logo&gt;, &lt;your organisation's name&gt;, by &lt;your name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7DA6-2EEB-4BAC-B680-25B9FF1D19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1560" y="990360"/>
            <a:ext cx="8202600" cy="6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Recommended Presentation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752120"/>
            <a:ext cx="8467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Font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 Use a sans serif font, such as Verdana, Arial or Helvet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Font size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age titles should size 32 poi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Verdana"/>
              </a:rPr>
              <a:t>Sub-titles should size 26 to 28 points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3rd level bullets should size 24 to 26 poi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4rth level bullets can use 20 to 24 poin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Font colour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Grey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for the page titl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rk blue for the page body cop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&lt;your organisation's logo&gt;, &lt;your organisation's name&gt;, by &lt;your name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AC47-F2C2-4B28-9EA9-D5B536BFA0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1697040"/>
            <a:ext cx="563868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Contac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&lt;Speaker’s name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&lt;Name of Organisatio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&lt;Full address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&lt;Tel: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&lt;Fax:&gt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&lt;Email: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&lt;Website: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&lt;your organisation's logo&gt;, &lt;your organisation's name&gt;, by &lt;your name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D261-709D-416A-AA19-2A1975D4BB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Spyros</cp:lastModifiedBy>
  <cp:lastPrinted>2002-01-29T09:36:43Z</cp:lastPrinted>
  <dcterms:modified xsi:type="dcterms:W3CDTF">2006-09-04T11:55:43Z</dcterms:modified>
  <cp:revision>28</cp:revision>
  <dc:subject/>
  <dc:title>Paper and Tutorial Presentation Template and Information</dc:title>
</cp:coreProperties>
</file>